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20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8238-2535-4D7F-B4B0-062EBBE9C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65C8-24DA-40A9-9123-4D96B2B2F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9B2D-BA5C-44EA-B760-032D1D067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F483-15C4-404F-8056-ACA2FAF64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EEAA-1D78-4628-A798-C584B566DE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566C-1FCC-4843-9A44-BC5C228320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DE8A-BB89-4886-8D3D-7969DC59F5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9DD96-BA3D-47F7-B992-1560EAEF7E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3089-5EEF-4942-98C3-34D87E1604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83E90-C837-485B-AB4E-E4CDFED3BF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C2CE-806A-41C4-9E83-4F5F0F1B09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3593-B8F3-40F4-9332-7E8241E1F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75A7-FF45-420B-8CB2-516A01B8B6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28C43-18F6-4516-BFC8-37B7EE7A85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04A6-5292-4250-8B0A-FC65F37F12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5A5C-3081-4241-A567-2EDA1474AF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A041-788A-44FB-B222-67E2CA9CE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BE29-4D4A-40FE-BA63-D7CD6BB67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9178-0210-4534-99C7-9297D2C23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215F-B3C2-42C6-938E-130054029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AA00-D0A8-4683-A894-4BF813767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6E07-592A-465C-B9F7-656312F81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8B65-A7FA-4A4D-ACB2-FBA7D67A8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90CE-BBE3-4617-A723-87E7AFED0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5EC4-D34E-422D-A242-B4084E67133D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228E-BA03-4C1C-B63B-3161B682FC5F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image" Target="../media/image1.png"/><Relationship Id="rId7" Type="http://schemas.openxmlformats.org/officeDocument/2006/relationships/image" Target="../media/image15.png"/><Relationship Id="rId8" Type="http://schemas.openxmlformats.org/officeDocument/2006/relationships/image" Target="../media/image1.png"/><Relationship Id="rId9" Type="http://schemas.openxmlformats.org/officeDocument/2006/relationships/image" Target="../media/image15.png"/><Relationship Id="rId10" Type="http://schemas.openxmlformats.org/officeDocument/2006/relationships/image" Target="../media/image1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135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y do we get floods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5157720"/>
            <a:ext cx="6147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here did all the water come from?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95480" y="1784520"/>
            <a:ext cx="5153040" cy="32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DD40-9702-47C7-9EF9-4C8D06E7FE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769080" cy="4537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6EF0-1EAA-4580-A695-A6E55D4097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191280" cy="4124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FC30-E622-495F-B8A4-E9DEC0C8253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biggest peacetime rescue in 50 years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476360" y="1370160"/>
            <a:ext cx="6191280" cy="41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D33C-0382-4209-86C5-4A702EDD5F6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2920" y="256536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No-one died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402920" y="8362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And the best bit …</a:t>
            </a:r>
            <a:endParaRPr b="1" lang="en-US" sz="36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16BE-1D42-40F9-8FA3-FC4B524405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y did it happen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7640" y="3789000"/>
            <a:ext cx="3887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Surrounding vegetation includes agricultural land with  a bit of woodland.  (So conditions would have been even worse, without these patches of woodland!) 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The rain coincided with </a:t>
            </a:r>
            <a:r>
              <a:rPr b="1" lang="en-US" sz="1600" spc="-1" strike="noStrike">
                <a:solidFill>
                  <a:srgbClr val="006699"/>
                </a:solidFill>
                <a:latin typeface="Comic Sans MS"/>
              </a:rPr>
              <a:t>high tide</a:t>
            </a: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 in the bay.  This slowed the rate of exit of floodwater into the harbour. 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764640"/>
            <a:ext cx="43876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The three river valleys are very </a:t>
            </a:r>
            <a:r>
              <a:rPr b="1" lang="en-US" sz="1600" spc="-1" strike="noStrike">
                <a:solidFill>
                  <a:srgbClr val="006699"/>
                </a:solidFill>
                <a:latin typeface="Comic Sans MS"/>
              </a:rPr>
              <a:t>steep</a:t>
            </a: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 and </a:t>
            </a:r>
            <a:r>
              <a:rPr b="1" lang="en-US" sz="1600" spc="-1" strike="noStrike">
                <a:solidFill>
                  <a:srgbClr val="006699"/>
                </a:solidFill>
                <a:latin typeface="Comic Sans MS"/>
              </a:rPr>
              <a:t>narrow</a:t>
            </a: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.  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The steep valley sides mean that </a:t>
            </a:r>
            <a:r>
              <a:rPr b="1" lang="en-US" sz="1600" spc="-1" strike="noStrike">
                <a:solidFill>
                  <a:srgbClr val="006699"/>
                </a:solidFill>
                <a:latin typeface="Comic Sans MS"/>
              </a:rPr>
              <a:t>soils are thin</a:t>
            </a: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, with limited water storage capacity when heavy rain comes.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The </a:t>
            </a:r>
            <a:r>
              <a:rPr b="1" lang="en-US" sz="1600" spc="-1" strike="noStrike">
                <a:solidFill>
                  <a:srgbClr val="006699"/>
                </a:solidFill>
                <a:latin typeface="Comic Sans MS"/>
              </a:rPr>
              <a:t>rock</a:t>
            </a: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 is old, hard sandstone which is impermeable.  The rivers here are naturally ‘</a:t>
            </a:r>
            <a:r>
              <a:rPr b="1" lang="en-US" sz="1600" spc="-1" strike="noStrike">
                <a:solidFill>
                  <a:srgbClr val="006699"/>
                </a:solidFill>
                <a:latin typeface="Comic Sans MS"/>
              </a:rPr>
              <a:t>flashy</a:t>
            </a: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’.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324000" y="765000"/>
            <a:ext cx="4390920" cy="2800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3635280" y="2708280"/>
            <a:ext cx="5267520" cy="3886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2886-76F9-4828-B1C1-895C73044E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4537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first signs of danger came at 2 p.m. on 16th August, when cast iron manhole covers in the town’s streets began to shudder, indicating that forceful storm waters were gathering in the sewers beneath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By mid-afternoon, the Valency and Jordan had over-topped their. At 5 p.m. the Clovelly Clothing shop was dragged 50 metres away from its site by floodwater flowing down the main street before later collapsing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03640" y="3213000"/>
            <a:ext cx="38894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s evening fell, soaked locals and holidaymakers huddled together in the village sports hall for warmth while helicopter winches lifted stranded home-owners off the roofs of their own house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003640" y="189000"/>
            <a:ext cx="3848400" cy="28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A859-CE4F-4105-8390-827094B685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Effects: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round 1000 residents and visitors are believed to have been affected in this devastating event. Miraculously, there were no fatalities, with only 1 reported casualty - a broken thumb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7 helicopters airlifted 100 people (including 6 firefighters) to safet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29 out of the 31 Cornwall County Fire Brigade stations were involved in the incident. They remained at Boscastle for 7 days, assisting in the clean-up operation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58 properties were flooded, 4 of which were demolished including the Visitor Centre. A further 40 properties were flooded in other village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4 footbridges along the Valency Valley were washed awa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84 wrecked cars were recovered from Boscastle’s harbour and streets, 32 could still be out at sea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nfrastructure damage to buildings and services, could cost up to £2 million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E287-6342-4F7E-B4E7-FBAE35012E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environment Agency identified several major problem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Because the river valleys were narrow and the rock impermeable, these river valleys would have difficulty coping with flash rainfall – very heavy rain in a short tim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So measures needed to be taken to make it as easy for the water pass through as quickly as possibl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E.g narrow stone bridges cut down the flow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s it the narrow bricked river bank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nd overhanging trees which could fall block the riv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3828-46D4-47ED-A0F1-6B0B92480D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environment Agency identified several major problem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The carpark was right beside the river and just about level with it and was one of few places the water could go when it over flowed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The River Jordan, which passed under the town in a culvert before joining the Valency just above the harbour, was too small to tak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0589-19FE-4B69-8BCA-B8AF89C304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9600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D621-AE7C-4E06-80D3-00C82D0321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at’s righ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f there is not enough room in the river, then the water overflows the banks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what is the most usual reason why this happens – what event can occur to make the water in the river overflow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950C-EED4-455D-8825-DB6A53AD18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198440"/>
            <a:ext cx="85341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3129-FD43-492D-9724-FCC6D7DD98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o what did they do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iden the river bed and the bridges to prevent material blocking them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iden and deepen the river bed to allow more space for extra water to flow through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aise the river bank for the new car park so it would not flood in futu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ild in features upstream from the town to catch debris brought downstream in a floo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ake sure that overhanging vegetation was either cut back or remove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38D5-54BE-490F-AD9B-7FBBA8B511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Now for the new footbridg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84360" y="1052640"/>
            <a:ext cx="4608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Option A was the preferred one by the community as it was similar to the old one and in-keeping with surrounding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But it would have to be double the width of the old one so stone was not suitable for an arch that size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Hence the 2 modern designs were looked at. Which do you think would be best?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324000" y="907920"/>
            <a:ext cx="3981240" cy="2610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50920" y="3933720"/>
            <a:ext cx="4244760" cy="2751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4788000" y="3789360"/>
            <a:ext cx="4057560" cy="26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A3A7-5CE6-4EB6-8967-BB33ECD657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ight again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608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eavy rain is the most usual event that happens right before a river floods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 not all the rain that floods out of the river, fell in it from the sky in the first place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ost of the water in the river came from the land either side and flowed into the river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4149720"/>
            <a:ext cx="3240360" cy="1511280"/>
          </a:xfrm>
          <a:prstGeom prst="cloudCallout">
            <a:avLst>
              <a:gd name="adj1" fmla="val -37504"/>
              <a:gd name="adj2" fmla="val 6995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hat kind of rivers flood the most easil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716360" y="1125360"/>
            <a:ext cx="4010040" cy="258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2F28-13BB-4592-A664-BCF2B1EA9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It is not really the rivers it is what goes on around them that matter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Remember most of the water lands on the sides of the river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How much of this ends up in the river depends on a number of thing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84360" y="2421000"/>
            <a:ext cx="2581200" cy="79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11280" y="3429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teep or flatter valley sides?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635280" y="2276640"/>
            <a:ext cx="1224000" cy="931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076720" y="2276640"/>
            <a:ext cx="1122480" cy="1152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92360" y="3573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Grassy or wooded valley sides?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88000" y="2205000"/>
            <a:ext cx="1078200" cy="100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7812000" y="2205000"/>
            <a:ext cx="1117800" cy="1117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227640" y="3429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cent weather: sunshine or rain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684360" y="4437000"/>
            <a:ext cx="1847880" cy="1390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2843280" y="4365720"/>
            <a:ext cx="1781280" cy="1662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595008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own or countr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5292720" y="4221000"/>
            <a:ext cx="3063960" cy="1492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354560" y="5734080"/>
            <a:ext cx="46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ocks are like cheese – some have holes – some don’t. Which is better to have under you in a flood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3C98-281B-4F97-891F-EDDC508006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o we decided that floods are more likely if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river is running through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steep valley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water more likely to run down hill rather than soak in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with grass rather than trees,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ess of the water is trapped in the vegetat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place where there had been recent rai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ground would be like a full up sponge that can take in no mor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place with impermeable rock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ater cannot soak into it – it stays ion the surfac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past a tow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concrete and tar stops the water soaking i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0D44-30BF-423E-8B39-F26F578305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Where is Boscastl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2554200" cy="2660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987640" y="1052640"/>
            <a:ext cx="6016680" cy="47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D207-8EF4-43DC-AF77-7C149B3DE6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66"/>
                </a:solidFill>
                <a:latin typeface="Comic Sans MS"/>
              </a:rPr>
              <a:t>So what happened in Boscastle on 16th August 2004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084720" y="2707920"/>
            <a:ext cx="26640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It started off nice enough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5327640" cy="39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DDC9-7A99-4135-A65E-E7733B9EDD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But look what happened later than day!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6143760" cy="412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1BB2-898F-4EB5-A28B-0611CFA75D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181560" cy="4124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1A78-5502-45F1-BF20-65CF144DB47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9:52:10Z</dcterms:created>
  <dc:creator>Lindy</dc:creator>
  <dc:description/>
  <dc:language>en-US</dc:language>
  <cp:lastModifiedBy>Lindy</cp:lastModifiedBy>
  <dcterms:modified xsi:type="dcterms:W3CDTF">2009-02-09T15:15:00Z</dcterms:modified>
  <cp:revision>9</cp:revision>
  <dc:subject/>
  <dc:title>Why do we get flood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